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6.pct" ContentType="image/x-pict"/>
  <Override PartName="/ppt/media/image7.pct" ContentType="image/x-pict"/>
  <Override PartName="/ppt/media/image8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4FB3-0771-4D8D-9100-64CA4C9C7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69339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90360" y="4040280"/>
            <a:ext cx="69339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1125-44B4-4AA6-9F4D-548247EAB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435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90360" y="404028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43560" y="404028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CE84-4064-4828-A823-AFD458C3B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34680" y="220932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79000" y="220932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90360" y="404028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34680" y="404028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79000" y="404028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E113-FFA0-4150-AABB-17CB508C2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C1F06-CADC-42A9-83E2-F79F40307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37EAB-B8E2-42BC-9857-1B95DDA7D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130BE-BCAC-456C-BD38-DF18EDE2E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33836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43560" y="2209320"/>
            <a:ext cx="33836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A4477-E9FA-4C40-A344-A25C4415D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555FA-3D72-4EAC-8781-EBBE0EF62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6320" y="990360"/>
            <a:ext cx="67820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DFF48-20D7-48EF-B2F2-5C8EB1077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43560" y="2209320"/>
            <a:ext cx="33836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90360" y="404028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4186A-23F9-4895-83E6-FCCDA79F9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F26A-4684-40C0-8B91-C65A01133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33836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435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43560" y="404028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55248-C8A3-4546-94A9-03D5D5FBA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435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90360" y="4040280"/>
            <a:ext cx="69339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E22BC-5264-495B-A426-AC96452FF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69339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90360" y="4040280"/>
            <a:ext cx="69339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E57EC-F2E3-4C66-9B88-1DC74834C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435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360" y="404028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43560" y="404028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779A1-0AC0-4C62-92DC-33802B852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220932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79000" y="220932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90360" y="404028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404028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79000" y="404028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C4A6A-614F-4F73-A122-569F7AC76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DE4D-5372-492F-8697-1F79E63FD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33836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43560" y="2209320"/>
            <a:ext cx="33836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1E2C-E812-46AA-B47D-33EF7DA44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650B-8527-4274-A8BD-BA0211CB1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320" y="990360"/>
            <a:ext cx="67820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CB47-D6FA-4B33-9F3A-7E4324F4A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43560" y="2209320"/>
            <a:ext cx="33836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90360" y="404028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1D90-5A7A-4E44-A928-FA101463D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33836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435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43560" y="404028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20BF-1F74-4498-99B9-E6A7382D8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435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90360" y="4040280"/>
            <a:ext cx="69339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8E15-CB21-444A-A3FE-94BAB04D1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08440" indent="-22140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3" marL="1551960" indent="-22140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4" marL="1995480" indent="-22140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5" marL="1995480" indent="-22140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6" marL="1995480" indent="-22140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EA3B2-26DE-4046-ADF4-FCCD708B75DF}" type="slidenum">
              <a:rPr b="0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88640" y="1371240"/>
            <a:ext cx="67057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2D518-D5A9-42A0-9DDF-C03D5D4D7B79}" type="slidenum">
              <a:rPr b="0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Font typeface="Verdan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ct"/><Relationship Id="rId3" Type="http://schemas.openxmlformats.org/officeDocument/2006/relationships/image" Target="../media/image3.pct"/><Relationship Id="rId4" Type="http://schemas.openxmlformats.org/officeDocument/2006/relationships/image" Target="../media/image4.pct"/><Relationship Id="rId5" Type="http://schemas.openxmlformats.org/officeDocument/2006/relationships/image" Target="../media/image5.pct"/><Relationship Id="rId6" Type="http://schemas.openxmlformats.org/officeDocument/2006/relationships/image" Target="../media/image6.pct"/><Relationship Id="rId7" Type="http://schemas.openxmlformats.org/officeDocument/2006/relationships/image" Target="../media/image7.pct"/><Relationship Id="rId8" Type="http://schemas.openxmlformats.org/officeDocument/2006/relationships/image" Target="../media/image8.pct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hybridcars.com/" TargetMode="External"/><Relationship Id="rId3" Type="http://schemas.openxmlformats.org/officeDocument/2006/relationships/hyperlink" Target="http://en.wikipedia.org/wiki/Hybrid_electric_vehicle" TargetMode="External"/><Relationship Id="rId4" Type="http://schemas.openxmlformats.org/officeDocument/2006/relationships/hyperlink" Target="http://www.eartheasy.com/live_hybrid_cars.htm" TargetMode="External"/><Relationship Id="rId5" Type="http://schemas.openxmlformats.org/officeDocument/2006/relationships/hyperlink" Target="http://www.hybrid-car.org/" TargetMode="External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88640" y="1371240"/>
            <a:ext cx="67057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 Bold"/>
              </a:rPr>
              <a:t>Hybrid Cars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142640" y="3886200"/>
            <a:ext cx="6629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Jay Ki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 Bold"/>
              </a:rPr>
              <a:t>What are Hybrid Cars?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 Bold"/>
              </a:rPr>
              <a:t>Cars that don’t use only oil to ru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 Bold"/>
              </a:rPr>
              <a:t>Rechargeable batteri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 Bold"/>
              </a:rPr>
              <a:t>Basically charges the batteries while running on oi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 Bold"/>
              </a:rPr>
              <a:t>History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 Bold"/>
              </a:rPr>
              <a:t>1901-Ferdinand Porsche a series hybrid vehicle he called the Mixt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 Bold"/>
              </a:rPr>
              <a:t>Won the Exelberg Rall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 Bold"/>
              </a:rPr>
              <a:t>Victor Wouk started the hybrid technology we know today back in the 1960s and 70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 Bold"/>
              </a:rPr>
              <a:t>Why Hybrid Cars?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 Bold"/>
              </a:rPr>
              <a:t>Reduces emissions by 90% compared to regular car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 Bold"/>
              </a:rPr>
              <a:t>Definitely helps save the plane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 Bold"/>
              </a:rPr>
              <a:t>More reliable than standard car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 Bold"/>
              </a:rPr>
              <a:t>Tax breaks anywhere around $1500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 Bold"/>
              </a:rPr>
              <a:t>Do They Look Nice?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457200" y="1905120"/>
            <a:ext cx="2698920" cy="17780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6019920" y="2057400"/>
            <a:ext cx="2898720" cy="21747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304920" y="4191120"/>
            <a:ext cx="3809880" cy="23828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2895480" y="2209680"/>
            <a:ext cx="2835360" cy="18259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5486400" y="4419720"/>
            <a:ext cx="3429000" cy="21794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7"/>
          <a:stretch/>
        </p:blipFill>
        <p:spPr>
          <a:xfrm>
            <a:off x="2362320" y="3733920"/>
            <a:ext cx="3063600" cy="20145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8"/>
          <a:stretch/>
        </p:blipFill>
        <p:spPr>
          <a:xfrm>
            <a:off x="4114800" y="4746600"/>
            <a:ext cx="3355920" cy="21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 Bold"/>
              </a:rPr>
              <a:t>Citation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ccff"/>
                </a:solidFill>
                <a:uFillTx/>
                <a:latin typeface="Verdana"/>
                <a:hlinkClick r:id="rId2"/>
              </a:rPr>
              <a:t>http://www.hybridcars.com/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ccff"/>
                </a:solidFill>
                <a:uFillTx/>
                <a:latin typeface="Verdana"/>
                <a:hlinkClick r:id="rId3"/>
              </a:rPr>
              <a:t>http://en.wikipedia.org/wiki/Hybrid_electric_vehicl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ccff"/>
                </a:solidFill>
                <a:uFillTx/>
                <a:latin typeface="Verdana"/>
                <a:hlinkClick r:id="rId4"/>
              </a:rPr>
              <a:t>http://www.eartheasy.com/live_hybrid_cars.ht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ccff"/>
                </a:solidFill>
                <a:uFillTx/>
                <a:latin typeface="Verdana"/>
                <a:hlinkClick r:id="rId5"/>
              </a:rPr>
              <a:t>http://www.hybrid-car.org/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3T10:30:40Z</dcterms:created>
  <dc:creator>Jay Kim</dc:creator>
  <dc:description/>
  <dc:language>en-US</dc:language>
  <cp:lastModifiedBy>Jay Kim</cp:lastModifiedBy>
  <dcterms:modified xsi:type="dcterms:W3CDTF">2008-12-03T11:24:15Z</dcterms:modified>
  <cp:revision>1</cp:revision>
  <dc:subject/>
  <dc:title>Hybrid Cars</dc:title>
</cp:coreProperties>
</file>